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464A8-A617-4E63-B3BE-D83D85229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AB7DE-6F92-44DB-BC72-08DCA9247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203AF-DBFD-4D42-ACE2-7962D4887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E7722-3881-4AE7-9ECB-3904523A2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1017A-E67C-44E5-9F54-E070A423A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541DB-224C-49E1-B59E-CBC93B45B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99E46-BA14-45EE-8A9C-E8ECD3135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26C65-39CA-40A8-AC71-4D81D04B3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7D1B5-19E2-4FF0-9784-87D8BBBDA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D40C-DCE0-4586-9174-8801AC481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9F0EC-7DB5-49FC-9E43-B7B21C80C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10966-A2C3-4599-B675-190E1AC5B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C8A8-47CD-4400-A04D-498700E0C27F}"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How To Lear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3160" y="3228480"/>
            <a:ext cx="785484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reparation Phase – Getting Star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room Con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istics of a good teach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nctu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iendl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listen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istics of a good lear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ed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per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quis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e in clas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ogi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acher can also use analogies with students to explain the roles of teacher and students in the learning proc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acher can guide, facilitate, present materials clearly, answer questions, model and provide some practice opportunities, but the teacher cannot learn the language for students or even make students learn the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must decide themselves th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want to learn, an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need to take initiative for seeking opportunities for learning, e.g. a soccer team or a theatrical pl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Reflection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rner-centred classroom requires students’ awareness of their learning proces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students to reflect on the components involved in language acquisition so they realize what they need to do to learn the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a time when you were learning a new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all some of the learning activities that you found help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you find most difficult about learning a new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lf-Reflections on Language Learning</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How do you like to learn a langu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What do you like best: reading, listening, writing or speaking?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What do you like least: reading, listening, writing or speaking?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How is learning a language is similar to and different from learning in other subje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ersonal language goal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rucial step toward a learner-centred classroom is getting students involved in learning by having them set language goals for themsel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 setting is a strategy that needs to be taught to stud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can be either long- or short-te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rt-term goals are used as enabling steps toward long-term goal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im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rease students’ involvement by increasing the stake they have in the learning proces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ive students the opportunity to establish their own goals, in addition to or in collaboration with those set by the instructional progra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ow students to reflect their reasons for learning a Second Language (SL), which may in turn lead to increased motiv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ating the learner-centred classroom</a:t>
            </a: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earner-centred classroom is an environment that creates and fosters independent students who are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ware of their learning process &amp;</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le to take control of their learn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earner-centred classroom must initially be created by the teacher and then accepted by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82880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paration phase is the time to lay the foundation or groundwork for creating a learner-centred classroom that is ready for strategies i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hase needs to embedded in the language instructional curriculum so that students see discussions about strategies and thought processes as a natural part of regular class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oes not occur automatically, but rather must be worked at so that all participants support the environment and are supported by the environ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whose learning abilities and strategies are acknowledged and encouraged will embrace strategies instruction as a way to further their own independence as active thin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ware are you of your own learning processes or strateg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what conditions do you “learn” most successfu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Learning Responsibilitie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ly, teachers shouldered much of the responsibilities for learning in the classro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in a learner-centred classroom, teachers and students share responsi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s role – model &amp; facilit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role – active participants who are ultimately responsible for their own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need a clear understanding of class expectations from the beginning in order for the learner-centred classroom to be success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room contracts and the use of learning anologies are two examples of how to start building a learner’s expectations toward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room Con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lassroom contract consists of an agreement between teacher and students or students and students regarding how each will contribute to and behave in the classro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s are most useful if students provide the input on the agreement with guidance from the teac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remember your best and favourite teac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qualities made them good teach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ould you characterize a good learn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8:57:51Z</dcterms:created>
  <dc:creator>Owner</dc:creator>
  <dc:description/>
  <dc:language>en-US</dc:language>
  <cp:lastModifiedBy>Buckrie</cp:lastModifiedBy>
  <dcterms:modified xsi:type="dcterms:W3CDTF">2011-12-15T07:33:44Z</dcterms:modified>
  <cp:revision>3</cp:revision>
  <dc:subject/>
  <dc:title>Learning How To Learn</dc:title>
</cp:coreProperties>
</file>